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4393800"/>
            <a:ext cx="88200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344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39380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43440" y="439380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5880" y="169992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8120" y="169992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439380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5880" y="439380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8120" y="4393800"/>
            <a:ext cx="283968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30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43440" y="1699920"/>
            <a:ext cx="430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730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43440" y="1699920"/>
            <a:ext cx="430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439380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30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4344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43440" y="439380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43440" y="1699920"/>
            <a:ext cx="43038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4393800"/>
            <a:ext cx="8820000" cy="24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Click to edit the title text format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51560" y="6045120"/>
            <a:ext cx="1592280" cy="701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4920" y="125280"/>
            <a:ext cx="1728720" cy="157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Normativa de la Subdirección de Informática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soría del Consumi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bierno de El Salv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33cc"/>
                </a:solidFill>
                <a:latin typeface="Verdana"/>
              </a:rPr>
              <a:t>Indice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1. ¿Para qué una norm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2. Funciones de la Dirección de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3. Organi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4.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Funciones de la Subdirección de Informática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80" y="141264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porte técnico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Capacitación a us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esarrollo de sistem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nstalación de equipos y 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Administración y planificación de la Subdirecció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nificación de actividades, revisión y coordinación del recurso humano, evaluación, propuestas de mejora contin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Coordinación y planificación con otras Direcci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mbién asesoría en términos informáticos para otras Direcciones y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 Coordinación de empresas externas a la Defensorí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Funciones de la Dirección de Informática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porte técnico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Capacitación a us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esarrollo de sistem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nstalación de equipos y 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Administración y planificación de la Subdirecció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nificación de actividades, revisión y coordinación del recurso humano, capacitación, evaluación, propuestas de mejora contin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Coordinación y planificación con otras Direcci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mbién asesoría en términos informáticos para otras Direcciones y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 Coordinación de empresas externas a la Defensorí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25400" y="1690560"/>
            <a:ext cx="3727080" cy="947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ÓLO HAC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PORTE TÉCN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Horario de atención a usuarios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ismo horario que la Defensoría de 7:30 a 12:30 y de 1:10 a 3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las 3:30, lo dedicamos a administración, planificación, capacitación, coordi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33cc"/>
                </a:solidFill>
                <a:latin typeface="Verdana"/>
              </a:rPr>
              <a:t>Indice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1. ¿Para qué una norm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2. Funciones de la Dirección de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3. Organi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4.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Organigrama de la subdirección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2060640"/>
            <a:ext cx="137160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director de Infor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35280" y="3068640"/>
            <a:ext cx="137160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dor de Infor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321080"/>
            <a:ext cx="144000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 de progra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21080" y="4321080"/>
            <a:ext cx="114300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 de soporte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06680" y="4092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06680" y="409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6880" y="409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206600" y="3800520"/>
            <a:ext cx="46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321080"/>
            <a:ext cx="15004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resas de progra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3680" y="2720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63680" y="2717280"/>
            <a:ext cx="13683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000760" y="3520800"/>
            <a:ext cx="11491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49880" y="352116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92680" y="4321080"/>
            <a:ext cx="175896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resas de soporte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33cc"/>
                </a:solidFill>
                <a:latin typeface="Verdana"/>
              </a:rPr>
              <a:t>Indice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1. ¿Para qué una norm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2. Funciones de la Dirección de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3. Organi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4.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Procedimientos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orte téc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aciones iniciadas por la Subdirección de Informá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aciones iniciadas por otras dir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ición de programación (reportes, cambios y modificaciones de los sistem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ición de reportes especiales para ruedas de pren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ición de reportes especiales urgentes por parte de la Docto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ación de equipos o 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en la página We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Un ejemplo (Procedimiento para soporte técnico)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usuario contacta a un profesional de soporte técnico, oralmente, por teléfono o correo electr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usuario expone su problema al profesiona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fesional resuelve el problema inmediatamente, si esto es posible. En caso contrario, explica al usuario la razón por la que esto no es posible y toma nota de las accion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vez el profesional ha resuelto el problema, le indica los detalles del caso al responsable de soporte técnico de la oficina para  monitore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un usuario reporta tres peticiones por el mismo motivo y éstas se deben a mala operación del usuario, se habla con su jefe inmediato para tomar medidas (por ejemplo, capacit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Defensoría del Consumidor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680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33cc"/>
                </a:solidFill>
                <a:latin typeface="Verdana"/>
              </a:rPr>
              <a:t>Indice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¿Para qué una norm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Funciones de la Dirección de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rgani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¿Por qué no a partir de las 3:30?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1 o 2 consultas por día y baj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mensa mayoría de las consultas pueden espe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s que no pueden esperar los técnicos o el usuario las resuel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uándo vamos a poder capacitarnos y organizarn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uándo podemos prepararnos para SA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33cc"/>
                </a:solidFill>
                <a:latin typeface="Verdana"/>
              </a:rPr>
              <a:t>Indice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1. ¿Para qué una norm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2. Funciones de la Dirección de Infor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3. Organi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4.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Verdana"/>
              </a:rPr>
              <a:t>¿Para qué una normativa de la subdirección de Informática? (1)</a:t>
            </a:r>
            <a:endParaRPr b="1" i="1" lang="en-US" sz="30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spuesta cor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dar un mejor servicio a las otras áreas de la Defenso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Verdana"/>
              </a:rPr>
              <a:t>¿Para qué una normativa de la subdirección de Informática? (2)</a:t>
            </a:r>
            <a:endParaRPr b="1" i="1" lang="en-US" sz="30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spuesta lar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las otras áreas sepan cuáles son nuestras funciones y qué pueden esperar de nuestra sub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las otras direcciones sepan cómo pedir recursos humanos y técnicos de la sub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todo ello se haga respaldándose en un documento oficial (según indicaciones de la Docto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estos recursos se asignen de forma lo más justa y eficiente po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Verdana"/>
              </a:rPr>
              <a:t>¿Para qué una normativa de la subdirección de Informática? (3)</a:t>
            </a:r>
            <a:endParaRPr b="1" i="1" lang="en-US" sz="30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spuesta lar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e pueda realizar lo urgente y lo importante (gestión del tiemp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crear una nueva forma de trabajo más ordenada y planificada en la subdirección, necesaria para asumir los nuevos r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yudar a ordenarse a las otras áreas de la Defenso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prepararnos para en un futuro a medio plazo poder empezar a implementar ISO9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Y una sugerencia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tal si las otras áreas también realizan una normativa propia para que las otras áreas sepamos cómo interactuar con ell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formación es posi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íamos subir las normativas a la página Web y demostrar que somos una institución ordenada y s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¿Qué es esta normativa?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documento que describe las funciones y procedimientos más usuales de la Dirección de Informática, de forma ágil y senci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compromiso de nuestra subdirección con las otras áreas que requieren nuestros servicios (tod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Verdana"/>
              </a:rPr>
              <a:t>Qué NO es esta normativa</a:t>
            </a:r>
            <a:endParaRPr b="1" i="1" lang="en-US" sz="34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incluye todos los procedimientos de la subdirección: sólo los procedimientos externos (que nos relacionan con otras direcc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incluye todos los procedimientos externos: sólo los más usuales. Los casos puntuales se resolverán de forma punt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ocedimientos no tienen multitud de pasos: se trata de ser ág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es un documento ISO9000: hubiera sido muy ambicioso e inope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es un documento escrito en piedra. Es una primera versión tentativa y que variará según veamos qué es lo que funci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1:13:11Z</dcterms:created>
  <dc:creator>vpalasi</dc:creator>
  <dc:description/>
  <dc:language>en-US</dc:language>
  <cp:lastModifiedBy>CREA INTERNACIONAL</cp:lastModifiedBy>
  <dcterms:modified xsi:type="dcterms:W3CDTF">2005-12-12T20:01:46Z</dcterms:modified>
  <cp:revision>58</cp:revision>
  <dc:subject/>
  <dc:title>Términos de referencia del sistema de atención al consumidor</dc:title>
</cp:coreProperties>
</file>